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F6DF-94B7-4E10-B63F-1B574D777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hemmybear.com/demo.htm ( Cooper + nitric acid demo instruct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3818-1150-411C-BF4F-C231F5568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37E-BAD3-4C61-839F-1A0DC3A0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0B6-65CF-4EA3-A6B3-F03D0923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2E0-444C-4CB7-8A4E-2D8C5FA3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B88-C8C7-4C89-B45E-4B2B1E18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A116-79A8-4952-994B-07F1E8C0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1B6B-F836-4A86-AA6E-2A376D65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C013-54F9-4E42-A3D0-C1B243D3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3BDE-9990-4EF4-859F-E5A0A8E3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47CD-6403-4097-84DA-6F04EDFF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3725-8F56-4D25-9083-449C6E4F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CC4D-2006-4D82-AE36-0D0BEA9A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7A8-354C-479F-A540-29532D3F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2C1A-681E-4E1C-AB8E-A82AB3DE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49F3-471C-4079-B97B-5EFDC860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C86F-8193-447A-B396-3B5260FE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4DCC-1D9F-4D0C-9967-5942FA02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ED08-34A5-47F8-9DEC-F09DDC24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BD41-E1B9-4B05-A7F4-DEBF3E88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7BE3-B2E7-458C-B5FE-D76E1B45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85A01-EBC0-4873-A2A7-F423B7B5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7E498-385A-4150-98E1-D7871CFE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B5614-F979-45A3-ABCC-BEBA4A08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898-549B-4A4F-B58C-E6D2E59E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2EEF5-32F8-41FA-895F-0F6173F1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69F4-04B0-4418-AA0B-3EA3BAD6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32AB-75BC-43F3-8AD6-C6F7498B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974F-D87C-497F-A9C4-6D5825E0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79A1D-1BFC-48D6-A53C-D2AC97EE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8490B-4C7C-4B2C-A9C3-D2331167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53739-AC9C-4E60-9457-38677789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E8F9D-4AAD-4A35-AE36-452FB637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063A2-FF0E-4C2F-84F9-65B97F04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F4099-FF55-49B1-BDD7-BA1820D2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169-73CB-4123-8F42-78842E1E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6ADE-7047-45D1-8356-5F9C7AE4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462DF-24CA-481C-AF72-1721D4CB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4A32E-0E81-4A4D-8DAA-86207EA3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35D29-864F-4EE7-86E0-05102FB2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C59E2-69A4-4768-888B-71EB5E4D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13891-1F71-475B-88CA-A44BEB57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657E0-A134-4381-9E91-C570C287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6B4D9-2895-4663-A2A6-1F6EF9D6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8A84D-DBE1-4685-AF07-C2CF42A2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11C5D-C855-463E-A91F-9D62855F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422-934F-4865-8DF1-1E877961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14260-EA89-42E3-86D5-9AD3B5DE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891F8-4B39-4BEA-B2D2-CED043E0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63DE2-D58B-4F82-876B-5A17402E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D6522-DFB6-4FA7-AC75-1F1D004C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516EF-330A-4CB6-8BAE-2FF8D5D7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7C141-B1AA-4722-9B91-42D62128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81FAB-1B28-46EF-95A0-1129CA5D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93D10-E513-4CBE-8F88-D5EC0BD0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3FB0E-CD4C-494A-B526-2F1B90CE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0D18D-B7E3-4B1B-891C-DCE37C12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47E-5706-41D0-AF0D-28BEABF4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62DCA-B968-4263-8B05-A50566B6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227EC0-692A-434D-97AF-7F8E14A8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6626E5-F0F0-4F9B-AD6C-296A5CB6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D51A1-CC73-496E-B075-43AE8594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395E2-82B3-471B-B4A8-AAFDF35D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F4491-2A09-4789-877D-E443DC6F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F02AC4-4C6C-412C-A1B1-582907A5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05DB49-0223-450C-A5A9-CD4C1612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82EC7-49C9-4EAB-8F6D-0F440634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B88D9-70BD-4465-B165-D74894F4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788-F32F-4502-8FCB-C62713D2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2660C2-8A0D-46E9-A5ED-39697AB4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7B23B-9CE7-4AB1-ACF5-C2D3827C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2DC345-F73C-4234-AFC9-179FFC00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BEB02-C19E-4C7D-A590-EFDC00CF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DA2E5-E573-4199-9123-9BCBB14F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9978F-ED5C-4916-B23A-ED1B296D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BF7C3-63FB-45A2-9AFF-BA9C5830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56C06-5223-4532-A885-2A2EB04A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B14F2-DE35-4B68-9F38-3E454645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6B09A-F443-4146-9567-9574B522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DE2-A072-45B3-AEFD-8FB1440D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DAF5A-83B4-4F16-B43D-55645BC0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C6969-BDB0-4704-8B79-49ACC5F5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04F45-9034-42E6-9314-10819687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C5576-7D1F-450A-9B2C-6F0937DA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980A8-1478-4E30-BBF5-B4F547F8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2DA-EF1C-4E36-924E-F4109F67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3F7B-C335-4745-98B4-2866718558EC}" type="slidenum">
              <a:rPr b="0" lang="en-US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74680"/>
            <a:ext cx="8594640" cy="1334880"/>
            <a:chOff x="274680" y="274680"/>
            <a:chExt cx="859464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74680"/>
              <a:ext cx="8594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68880"/>
            <a:chOff x="341280" y="2938320"/>
            <a:chExt cx="7156440" cy="246888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7f8fa9">
              <a:alpha val="70000"/>
            </a:srgbClr>
          </a:solidFill>
          <a:ln w="6480">
            <a:solidFill>
              <a:srgbClr val="34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34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234f7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4AA3-BE10-410A-BC27-A9AD77D74DAE}" type="slidenum">
              <a:rPr b="0" lang="en-US" sz="2800" spc="-1" strike="noStrike">
                <a:solidFill>
                  <a:srgbClr val="234f77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34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1F33-A417-4ED6-B69F-F6EBFAE6BD6F}" type="slidenum">
              <a:rPr b="0" lang="en-US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8FD2-0C69-492D-8E05-2F712758940F}" type="slidenum">
              <a:rPr b="0" lang="en-US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4800"/>
            <a:ext cx="2725560" cy="3524400"/>
            <a:chOff x="554040" y="1504800"/>
            <a:chExt cx="272556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4800"/>
              <a:ext cx="272556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34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11CA-4596-4399-83F7-8D9D21B97A0E}" type="slidenum">
              <a:rPr b="0" lang="en-US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78880" cy="1377720"/>
            <a:chOff x="682560" y="4950000"/>
            <a:chExt cx="7778880" cy="137772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7888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0003-DCF6-4267-9A0B-4F645EA5046C}" type="slidenum">
              <a:rPr b="0" lang="en-US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297f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28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50ED-BC9E-4137-987F-D882121725BE}" type="slidenum">
              <a:rPr b="0" lang="en-US" sz="1200" spc="-1" strike="noStrike">
                <a:solidFill>
                  <a:srgbClr val="2428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5HtNCdz8X3g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utu.be/n_pOYGM5zg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4f77"/>
                </a:solidFill>
                <a:latin typeface="Book Antiqua"/>
              </a:rPr>
              <a:t>Types of Chemical Reactions </a:t>
            </a:r>
            <a:endParaRPr b="0" lang="en-US" sz="3600" spc="-1" strike="noStrike">
              <a:solidFill>
                <a:srgbClr val="3477b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0_quiz_thermite"/>
          <p:cNvPicPr/>
          <p:nvPr/>
        </p:nvPicPr>
        <p:blipFill>
          <a:blip r:embed="rId1"/>
          <a:stretch/>
        </p:blipFill>
        <p:spPr>
          <a:xfrm>
            <a:off x="1905120" y="247644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799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77b2"/>
                </a:solidFill>
                <a:latin typeface="Century Gothic"/>
              </a:rPr>
              <a:t>Example: Thermite Reaction </a:t>
            </a:r>
            <a:br>
              <a:rPr sz="3200"/>
            </a:br>
            <a:r>
              <a:rPr b="0" lang="en-US" sz="3200" spc="-1" strike="noStrike">
                <a:solidFill>
                  <a:srgbClr val="3477b2"/>
                </a:solidFill>
                <a:latin typeface="Century Gothic"/>
              </a:rPr>
              <a:t>2 Al + Fe</a:t>
            </a:r>
            <a:r>
              <a:rPr b="0" lang="en-US" sz="3200" spc="-1" strike="noStrike" baseline="-25000">
                <a:solidFill>
                  <a:srgbClr val="3477b2"/>
                </a:solidFill>
                <a:latin typeface="Century Gothic"/>
              </a:rPr>
              <a:t>2</a:t>
            </a:r>
            <a:r>
              <a:rPr b="0" lang="en-US" sz="3200" spc="-1" strike="noStrike">
                <a:solidFill>
                  <a:srgbClr val="3477b2"/>
                </a:solidFill>
                <a:latin typeface="Century Gothic"/>
              </a:rPr>
              <a:t>O</a:t>
            </a:r>
            <a:r>
              <a:rPr b="0" lang="en-US" sz="3200" spc="-1" strike="noStrike" baseline="-25000">
                <a:solidFill>
                  <a:srgbClr val="3477b2"/>
                </a:solidFill>
                <a:latin typeface="Century Gothic"/>
              </a:rPr>
              <a:t>3</a:t>
            </a:r>
            <a:r>
              <a:rPr b="0" lang="en-US" sz="3200" spc="-1" strike="noStrike">
                <a:solidFill>
                  <a:srgbClr val="3477b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477b2"/>
                </a:solidFill>
                <a:latin typeface="Century Gothic"/>
              </a:rPr>
              <a:t> Al</a:t>
            </a:r>
            <a:r>
              <a:rPr b="0" lang="en-US" sz="3200" spc="-1" strike="noStrike" baseline="-25000">
                <a:solidFill>
                  <a:srgbClr val="3477b2"/>
                </a:solidFill>
                <a:latin typeface="Century Gothic"/>
              </a:rPr>
              <a:t>2</a:t>
            </a:r>
            <a:r>
              <a:rPr b="0" lang="en-US" sz="3200" spc="-1" strike="noStrike">
                <a:solidFill>
                  <a:srgbClr val="3477b2"/>
                </a:solidFill>
                <a:latin typeface="Century Gothic"/>
              </a:rPr>
              <a:t>O</a:t>
            </a:r>
            <a:r>
              <a:rPr b="0" lang="en-US" sz="3200" spc="-1" strike="noStrike" baseline="-25000">
                <a:solidFill>
                  <a:srgbClr val="3477b2"/>
                </a:solidFill>
                <a:latin typeface="Century Gothic"/>
              </a:rPr>
              <a:t>3</a:t>
            </a:r>
            <a:r>
              <a:rPr b="0" lang="en-US" sz="3200" spc="-1" strike="noStrike">
                <a:solidFill>
                  <a:srgbClr val="3477b2"/>
                </a:solidFill>
                <a:latin typeface="Century Gothic"/>
              </a:rPr>
              <a:t> + 2 Fe</a:t>
            </a:r>
            <a:endParaRPr b="0" lang="en-US" sz="32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Example: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2NaBr (aq) + Cl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(g)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2NaCl (aq) + Br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 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g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Examples: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a    +    Al(NO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3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)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3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K    +     Na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O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4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77b2"/>
                </a:solidFill>
                <a:latin typeface="Book Antiqua"/>
              </a:rPr>
              <a:t>Double Replacement</a:t>
            </a:r>
            <a:br>
              <a:rPr sz="3600"/>
            </a:br>
            <a:r>
              <a:rPr b="0" lang="en-US" sz="3600" spc="-1" strike="noStrike">
                <a:solidFill>
                  <a:srgbClr val="3477b2"/>
                </a:solidFill>
                <a:latin typeface="Book Antiqua"/>
              </a:rPr>
              <a:t>(Double Displacement)</a:t>
            </a:r>
            <a:endParaRPr b="0" lang="en-US" sz="36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B + CD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AD + CB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Double Replacement Reactions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6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Occur in aqueous solution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For a DR reaction to occur one of the following must happen: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629dd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 precipitate is formed (an insoluble or slightly soluble solid)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629dd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 molecular compound (usually water is formed)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629dd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 gas is formed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77b2"/>
                </a:solidFill>
                <a:latin typeface="Book Antiqua"/>
              </a:rPr>
              <a:t>Example: Production of a Precipitate</a:t>
            </a:r>
            <a:br>
              <a:rPr sz="3200"/>
            </a:br>
            <a:r>
              <a:rPr b="0" lang="en-US" sz="3200" spc="-1" strike="noStrike">
                <a:solidFill>
                  <a:srgbClr val="3477b2"/>
                </a:solidFill>
                <a:latin typeface="Book Antiqua"/>
              </a:rPr>
              <a:t>     Silver Nitrate + Sodium Chloride</a:t>
            </a:r>
            <a:endParaRPr b="0" lang="en-US" sz="32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04920" y="21333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Precipitate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gCl (s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370" name="Picture 7" descr="proc6"/>
          <p:cNvPicPr/>
          <p:nvPr/>
        </p:nvPicPr>
        <p:blipFill>
          <a:blip r:embed="rId1"/>
          <a:stretch/>
        </p:blipFill>
        <p:spPr>
          <a:xfrm>
            <a:off x="5029200" y="2590920"/>
            <a:ext cx="3909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Solubility Rules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ee the reference chart behind your periodic table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Example: Production of H</a:t>
            </a:r>
            <a:r>
              <a:rPr b="0" lang="en-US" sz="3500" spc="-1" strike="noStrike" baseline="-25000">
                <a:solidFill>
                  <a:srgbClr val="3477b2"/>
                </a:solidFill>
                <a:latin typeface="Book Antiqua"/>
              </a:rPr>
              <a:t>2</a:t>
            </a: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O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286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H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O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4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+2NaOH(aq)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2H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O(l) +Na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 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O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4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77b2"/>
                </a:solidFill>
                <a:latin typeface="Book Antiqua"/>
              </a:rPr>
              <a:t>3 Ways to Write Equations Involving Reactions in Solutions</a:t>
            </a:r>
            <a:endParaRPr b="0" lang="en-US" sz="36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52"/>
                </a:solidFill>
                <a:latin typeface="Century Gothic"/>
              </a:rPr>
              <a:t>Formula Equation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ex: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Zn(s) +2HCl(aq)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ZnCl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 + H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g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52"/>
                </a:solidFill>
                <a:latin typeface="Century Gothic"/>
              </a:rPr>
              <a:t>Complete Ionic Equation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242852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Zn(s) +2H</a:t>
            </a:r>
            <a:r>
              <a:rPr b="0" lang="en-US" sz="2400" spc="-1" strike="noStrike" baseline="30000">
                <a:solidFill>
                  <a:srgbClr val="242852"/>
                </a:solidFill>
                <a:latin typeface="Century Gothic"/>
              </a:rPr>
              <a:t>+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+2Cl</a:t>
            </a:r>
            <a:r>
              <a:rPr b="0" lang="en-US" sz="2400" spc="-1" strike="noStrike" baseline="30000">
                <a:solidFill>
                  <a:srgbClr val="242852"/>
                </a:solidFill>
                <a:latin typeface="Century Gothic"/>
              </a:rPr>
              <a:t>-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Zn</a:t>
            </a:r>
            <a:r>
              <a:rPr b="0" lang="en-US" sz="2400" spc="-1" strike="noStrike" baseline="30000">
                <a:solidFill>
                  <a:srgbClr val="242852"/>
                </a:solidFill>
                <a:latin typeface="Century Gothic"/>
              </a:rPr>
              <a:t>+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+ 2Cl </a:t>
            </a:r>
            <a:r>
              <a:rPr b="0" lang="en-US" sz="2400" spc="-1" strike="noStrike" baseline="30000">
                <a:solidFill>
                  <a:srgbClr val="242852"/>
                </a:solidFill>
                <a:latin typeface="Century Gothic"/>
              </a:rPr>
              <a:t>-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 + H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g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52"/>
                </a:solidFill>
                <a:latin typeface="Century Gothic"/>
              </a:rPr>
              <a:t>Net Ionic Equation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Zn(s) +2H</a:t>
            </a:r>
            <a:r>
              <a:rPr b="0" lang="en-US" sz="2400" spc="-1" strike="noStrike" baseline="30000">
                <a:solidFill>
                  <a:srgbClr val="242852"/>
                </a:solidFill>
                <a:latin typeface="Century Gothic"/>
              </a:rPr>
              <a:t>+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Zn</a:t>
            </a:r>
            <a:r>
              <a:rPr b="0" lang="en-US" sz="2400" spc="-1" strike="noStrike" baseline="30000">
                <a:solidFill>
                  <a:srgbClr val="242852"/>
                </a:solidFill>
                <a:latin typeface="Century Gothic"/>
              </a:rPr>
              <a:t>+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aq)+H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(g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Note: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pectator ions are ions that do not undergo chemical change during the reaction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In a net ionic equation the charge and the atoms must balance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5"/>
          <p:cNvSpPr/>
          <p:nvPr/>
        </p:nvSpPr>
        <p:spPr>
          <a:xfrm>
            <a:off x="2057400" y="609480"/>
            <a:ext cx="6400800" cy="64260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Chemical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824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omposition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Decomposition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Single Replacement (Displacement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Double Replacement (Displacement)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Combustion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454c3"/>
                </a:solidFill>
                <a:uFillTx/>
                <a:latin typeface="Book Antiqua"/>
                <a:hlinkClick r:id="rId1"/>
              </a:rPr>
              <a:t>Composition_x000b_(Combination, Synthesis)</a:t>
            </a:r>
            <a:endParaRPr b="0" lang="en-US" sz="36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Two or more substances combine to form a single substance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General equation: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 + B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AB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example: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2Na + Cl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2NaCl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Composition Reaction Practice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Magnesium and Oxygen combine to yield ________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______   + ________ 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_________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Magnesium Oxide and Water combine to yield Magnesium Hydroxide.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___________  +   ____________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____________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61640" cy="103968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9454c3"/>
                </a:solidFill>
                <a:uFillTx/>
                <a:latin typeface="Book Antiqua"/>
                <a:hlinkClick r:id="rId1"/>
              </a:rPr>
              <a:t>Decomposition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 compound is broken into two or more products.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General equation: Frequently requires Energy input…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B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A + B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example: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2H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O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2H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+ O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This requires the input of electricity!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This process is called electrolysis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348" name="Picture 4" descr="im35 water decomposed"/>
          <p:cNvPicPr/>
          <p:nvPr/>
        </p:nvPicPr>
        <p:blipFill>
          <a:blip r:embed="rId2"/>
          <a:stretch/>
        </p:blipFill>
        <p:spPr>
          <a:xfrm>
            <a:off x="4191120" y="3092400"/>
            <a:ext cx="49528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Examples: 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Nitrogen triiodide decomposes to form nitrogen gas and iodine.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KClO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3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 ___________ + O</a:t>
            </a:r>
            <a:r>
              <a:rPr b="0" lang="en-US" sz="2400" spc="-1" strike="noStrike" baseline="-25000">
                <a:solidFill>
                  <a:srgbClr val="242852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Magnesium Hydroxide decomposes to form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________  </a:t>
            </a:r>
            <a:r>
              <a:rPr b="0" lang="en-US" sz="2400" spc="-1" strike="noStrike">
                <a:solidFill>
                  <a:srgbClr val="24285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____________  + ______________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Single Replacement 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A more active element takes the place of another element in a compound and sets the less active one free.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52"/>
                </a:solidFill>
                <a:latin typeface="Century Gothic"/>
              </a:rPr>
              <a:t>Basic form: A  +  BX  → AX  +  B  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852"/>
                </a:solidFill>
                <a:latin typeface="Century Gothic"/>
              </a:rPr>
              <a:t>or  AX  +  Y  →    AY + X</a:t>
            </a: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Century Gothic"/>
              </a:rPr>
              <a:t>What’s the difference between these two examples? </a:t>
            </a: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285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solidFill>
            <a:srgbClr val="629dd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477b2"/>
                </a:solidFill>
                <a:latin typeface="Book Antiqua"/>
              </a:rPr>
              <a:t>Activity Series</a:t>
            </a:r>
            <a:endParaRPr b="0" lang="en-US" sz="3500" spc="-1" strike="noStrike">
              <a:solidFill>
                <a:srgbClr val="3477b2"/>
              </a:solidFill>
              <a:latin typeface="Book Antiqu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255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852"/>
                </a:solidFill>
                <a:latin typeface="Century Gothic"/>
              </a:rPr>
              <a:t>For an element to replace another the lone element must be more active than the element it is replacing in the substance.</a:t>
            </a:r>
            <a:endParaRPr b="0" lang="en-US" sz="2800" spc="-1" strike="noStrike">
              <a:solidFill>
                <a:srgbClr val="242852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629d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2852"/>
              </a:solidFill>
              <a:latin typeface="Century Gothic"/>
            </a:endParaRPr>
          </a:p>
        </p:txBody>
      </p:sp>
      <p:pic>
        <p:nvPicPr>
          <p:cNvPr id="355" name="Content Placeholder 6" descr="eactivity series of metals"/>
          <p:cNvPicPr/>
          <p:nvPr/>
        </p:nvPicPr>
        <p:blipFill>
          <a:blip r:embed="rId1"/>
          <a:srcRect l="0" t="12795" r="0" b="12795"/>
          <a:stretch/>
        </p:blipFill>
        <p:spPr>
          <a:xfrm>
            <a:off x="4648320" y="1752480"/>
            <a:ext cx="4038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3"/>
          <p:cNvPicPr/>
          <p:nvPr/>
        </p:nvPicPr>
        <p:blipFill>
          <a:blip r:embed="rId1"/>
          <a:stretch/>
        </p:blipFill>
        <p:spPr>
          <a:xfrm>
            <a:off x="152280" y="1828800"/>
            <a:ext cx="8686800" cy="48006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2"/>
          <p:cNvSpPr/>
          <p:nvPr/>
        </p:nvSpPr>
        <p:spPr>
          <a:xfrm>
            <a:off x="152280" y="0"/>
            <a:ext cx="8686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inc is added to hydrochloric acid  to produce a new compound and a g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    + ____________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_________ + 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HERINE, GALLAGHER</cp:lastModifiedBy>
  <dcterms:modified xsi:type="dcterms:W3CDTF">2013-01-10T19:22:4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